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776-2AB0-429C-9971-7D75AF314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E34F-C594-4F56-BF91-FC49ED2EF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3AA-7DFC-4F05-9EF7-EC397D4E78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00EC-0594-409A-A0E2-F9A2770CD3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212-9C26-4487-940B-BFA72EBD84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A3DC-263E-4117-94E6-68D07B542D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618D-E7E9-4217-8643-34F6DBB0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17A-BA6C-431E-9C1C-B4D46D8A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952-C495-4981-B44C-4CD9968CD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4E1-64C9-4883-9914-078E6B02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398-0C78-4DDE-A4CE-F1370BA1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0DFA-0D46-4D33-A803-A3039BB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5EF2-19E2-4CAD-A7EE-C7ACAFB1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A9C-1BD2-4662-A2E6-E30F34DB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E85A-EB49-45F4-988E-08465A6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399A-8DDB-48B3-88B0-4E9F061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F720-5823-48F1-A8BB-25BC10AA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0C8-E2FD-4BF3-9EB9-5650CA78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34DA-B9AF-489B-B19A-9C372A2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FA41-FBC6-4507-9A43-E4E46948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5BB2-0CC5-4F8B-9CA8-2BDDB9A9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E8BA-FD6B-49A5-8EF8-6F98D01B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C1A2-5800-47B0-A446-7CC1A26F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ED4-CD47-4745-A357-B37659F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CCB-B69B-415E-A949-EAD02FBD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DF3-78AF-4E9F-91B5-EA32DD91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99D7-BDCC-49B3-BD7D-B74FBF31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399-3C68-418E-9D46-60A9405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B875-F08D-4593-8BE3-59D218A8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402-482D-4C59-877A-076DBD13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11D2-D712-4991-B8B1-D72084C47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266B-DC9D-4325-8946-A113C87381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19160"/>
            <a:ext cx="838224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Federal Cour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DEFINE ORIGIN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743200" y="3178080"/>
            <a:ext cx="39956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608040"/>
            <a:ext cx="9144000" cy="31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EFINE APELLATE JURISDICTION.</a:t>
            </a:r>
            <a:br>
              <a:rPr sz="44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(Can you pronounce it?)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:-)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16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ich Article of the Constitution created the Judicial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552760" y="3276720"/>
            <a:ext cx="40384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TRUE OR FAL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Bank Robbery is under Feder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133720" y="3581280"/>
            <a:ext cx="42130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TRUE OR FAL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Murder is under Feder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617920" y="3362400"/>
            <a:ext cx="3908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08T12:48:20Z</dcterms:modified>
  <cp:revision>133</cp:revision>
  <dc:subject/>
  <dc:title>D/O: TO EXPLAIN AND IDENTIFY PROBLEMS OF ECONOMICS</dc:title>
</cp:coreProperties>
</file>